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A61-F4C4-4367-B9E7-373C9078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FDD-281D-4EDA-973E-FCC461EC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92B-E96E-4612-BD27-AD72135E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22E-F2AF-41C0-AD80-843874D8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C0DC-EAC0-45E4-81B3-A39B991D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987-BAB7-4239-BC17-3661A17C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978-64AE-4077-8DEF-7D3360E6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09B0-E785-4C8E-87EE-642E45D0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03FF-691E-4D87-8EF4-4C2F63E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5E0-4BFC-4D75-84FD-43850DE1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B324-5996-4F61-9350-9349B6B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5E2-4C3E-479B-9A6F-692F66E2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06F-5456-4242-9D9C-3A454DA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F2C-3C7D-41A8-8CC9-8621FF5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94F8-121A-479B-9DAE-B36B983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2144-CC48-411D-B125-CB0E4596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6674-BC1B-40CE-A34C-0F6A475E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9B9-70BD-41B8-BB55-E6A79AB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BEA-B124-455F-AF73-83A59E3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1F6-77AE-4FE6-8918-3407C4D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431-9DE0-4E9E-B574-5792493A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B88-C987-4458-BE69-6EB9508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64-6631-4612-8888-2B0995A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730-074D-4A64-99CE-CAED6AC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AA3-741B-477F-A8DF-00AAA346C44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672-611A-49F4-9243-B8C9E45C7C9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Application Questions #1 and 2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rett Sutow, Katie Halbruner, Sam Bar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1600200"/>
          <a:ext cx="9372600" cy="3630600"/>
        </p:xfrm>
        <a:graphic>
          <a:graphicData uri="http://schemas.openxmlformats.org/drawingml/2006/table">
            <a:tbl>
              <a:tblPr/>
              <a:tblGrid>
                <a:gridCol w="1341360"/>
                <a:gridCol w="1336680"/>
                <a:gridCol w="1339920"/>
                <a:gridCol w="1336680"/>
                <a:gridCol w="1339920"/>
                <a:gridCol w="1336680"/>
                <a:gridCol w="1341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=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=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=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=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=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=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=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=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g=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=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i=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=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=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=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 Continued.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219320"/>
          <a:ext cx="7772400" cy="4225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H+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OH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, Base, 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u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 Continued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ids pick up hydroxide (OH-) and leave hydrogen (H+) beh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ses pick up hydrogen (H+) and leave hydroxide (OH-) beh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2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H3 is pol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2 non pol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H3 completely dissociates in H2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2 partially dissociates in H2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228600" y="2714760"/>
            <a:ext cx="5181480" cy="4143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191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2:27Z</dcterms:created>
  <dc:creator>xpstudent</dc:creator>
  <dc:description/>
  <dc:language>en-US</dc:language>
  <cp:lastModifiedBy>xpstudent</cp:lastModifiedBy>
  <dcterms:modified xsi:type="dcterms:W3CDTF">2010-09-23T14:26:39Z</dcterms:modified>
  <cp:revision>3</cp:revision>
  <dc:subject/>
  <dc:title>Questions #1 and 2</dc:title>
</cp:coreProperties>
</file>